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089A-5576-435F-A47F-0CF3E1479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D7A3-C2FC-4C55-A6F1-2064E561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4655-906B-4560-8C71-1E3317162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7154-8A40-49F4-BE3B-FE1E2B7B1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7540-A9FB-420C-9A1D-E347B186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CCBD-AC1A-4264-A5B3-4B400658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C912-79EB-4D52-AE85-889E04BD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7ED8-7738-4FE4-BEDB-193279EE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A2C5-2B38-4F20-81BA-5F75E9D2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06CE-C33A-476E-BD57-FE981F51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79B9-F500-4EF7-B15A-E6999D5F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AED1-DA77-4253-9995-237FA62D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6700-20A4-43AA-949D-3AF896B27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>
            <a:hlinkClick r:id="rId2" action="ppaction://hlinksldjump"/>
          </p:cNvPr>
          <p:cNvSpPr/>
          <p:nvPr/>
        </p:nvSpPr>
        <p:spPr>
          <a:xfrm>
            <a:off x="7885080" y="6669000"/>
            <a:ext cx="647640" cy="189000"/>
          </a:xfrm>
          <a:custGeom>
            <a:avLst/>
            <a:gdLst>
              <a:gd name="textAreaLeft" fmla="*/ 12240 w 647640"/>
              <a:gd name="textAreaRight" fmla="*/ 635400 w 64764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16" h="21600">
                <a:moveTo>
                  <a:pt x="0" y="0"/>
                </a:moveTo>
                <a:lnTo>
                  <a:pt x="73916" y="0"/>
                </a:lnTo>
                <a:lnTo>
                  <a:pt x="73916" y="21600"/>
                </a:lnTo>
                <a:lnTo>
                  <a:pt x="0" y="21600"/>
                </a:lnTo>
                <a:close/>
              </a:path>
              <a:path fill="lightenLess" w="73916" h="21600">
                <a:moveTo>
                  <a:pt x="0" y="0"/>
                </a:moveTo>
                <a:lnTo>
                  <a:pt x="73916" y="0"/>
                </a:lnTo>
                <a:lnTo>
                  <a:pt x="72516" y="1400"/>
                </a:lnTo>
                <a:lnTo>
                  <a:pt x="1400" y="1400"/>
                </a:lnTo>
                <a:close/>
              </a:path>
              <a:path fill="darken" w="73916" h="21600">
                <a:moveTo>
                  <a:pt x="73916" y="0"/>
                </a:moveTo>
                <a:lnTo>
                  <a:pt x="73916" y="21600"/>
                </a:lnTo>
                <a:lnTo>
                  <a:pt x="72516" y="20200"/>
                </a:lnTo>
                <a:lnTo>
                  <a:pt x="72516" y="1400"/>
                </a:lnTo>
                <a:close/>
              </a:path>
              <a:path fill="darkenLess" w="73916" h="21600">
                <a:moveTo>
                  <a:pt x="73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16" y="20200"/>
                </a:lnTo>
                <a:close/>
              </a:path>
              <a:path fill="lighten" w="73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916" h="21600">
                <a:moveTo>
                  <a:pt x="36958" y="3837"/>
                </a:moveTo>
                <a:lnTo>
                  <a:pt x="39534" y="6448"/>
                </a:ln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lnTo>
                  <a:pt x="43921" y="10800"/>
                </a:lnTo>
                <a:lnTo>
                  <a:pt x="42267" y="10800"/>
                </a:lnTo>
                <a:lnTo>
                  <a:pt x="42267" y="17989"/>
                </a:lnTo>
                <a:lnTo>
                  <a:pt x="31649" y="17989"/>
                </a:lnTo>
                <a:lnTo>
                  <a:pt x="31649" y="10800"/>
                </a:lnTo>
                <a:lnTo>
                  <a:pt x="29995" y="10800"/>
                </a:lnTo>
                <a:close/>
              </a:path>
              <a:path fill="darkenLess" w="73916" h="21600">
                <a:moveTo>
                  <a:pt x="39534" y="6448"/>
                </a:move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close/>
              </a:path>
              <a:path fill="darkenLess" w="73916" h="21600">
                <a:moveTo>
                  <a:pt x="36036" y="14299"/>
                </a:moveTo>
                <a:lnTo>
                  <a:pt x="37881" y="14299"/>
                </a:lnTo>
                <a:lnTo>
                  <a:pt x="37881" y="17989"/>
                </a:lnTo>
                <a:lnTo>
                  <a:pt x="42267" y="17989"/>
                </a:lnTo>
                <a:lnTo>
                  <a:pt x="42267" y="10800"/>
                </a:lnTo>
                <a:lnTo>
                  <a:pt x="31649" y="10800"/>
                </a:lnTo>
                <a:lnTo>
                  <a:pt x="31649" y="17989"/>
                </a:lnTo>
                <a:lnTo>
                  <a:pt x="36036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endshow"/>
          </p:cNvPr>
          <p:cNvSpPr/>
          <p:nvPr/>
        </p:nvSpPr>
        <p:spPr>
          <a:xfrm>
            <a:off x="7451640" y="6669000"/>
            <a:ext cx="432000" cy="189000"/>
          </a:xfrm>
          <a:custGeom>
            <a:avLst/>
            <a:gdLst>
              <a:gd name="textAreaLeft" fmla="*/ 12240 w 432000"/>
              <a:gd name="textAreaRight" fmla="*/ 419760 w 43200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49319" h="21600">
                <a:moveTo>
                  <a:pt x="0" y="0"/>
                </a:moveTo>
                <a:lnTo>
                  <a:pt x="49319" y="0"/>
                </a:lnTo>
                <a:lnTo>
                  <a:pt x="49319" y="21600"/>
                </a:lnTo>
                <a:lnTo>
                  <a:pt x="0" y="21600"/>
                </a:lnTo>
                <a:close/>
              </a:path>
              <a:path fill="lightenLess" w="49319" h="21600">
                <a:moveTo>
                  <a:pt x="0" y="0"/>
                </a:moveTo>
                <a:lnTo>
                  <a:pt x="49319" y="0"/>
                </a:lnTo>
                <a:lnTo>
                  <a:pt x="47919" y="1400"/>
                </a:lnTo>
                <a:lnTo>
                  <a:pt x="1400" y="1400"/>
                </a:lnTo>
                <a:close/>
              </a:path>
              <a:path fill="darken" w="49319" h="21600">
                <a:moveTo>
                  <a:pt x="49319" y="0"/>
                </a:moveTo>
                <a:lnTo>
                  <a:pt x="49319" y="21600"/>
                </a:lnTo>
                <a:lnTo>
                  <a:pt x="47919" y="20200"/>
                </a:lnTo>
                <a:lnTo>
                  <a:pt x="47919" y="1400"/>
                </a:lnTo>
                <a:close/>
              </a:path>
              <a:path fill="darkenLess" w="49319" h="21600">
                <a:moveTo>
                  <a:pt x="493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19" y="20200"/>
                </a:lnTo>
                <a:close/>
              </a:path>
              <a:path fill="lighten" w="493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211640" y="2781360"/>
            <a:ext cx="4464000" cy="24494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cc00"/>
              </a:gs>
              <a:gs pos="50000">
                <a:srgbClr val="ccff33"/>
              </a:gs>
              <a:gs pos="100000">
                <a:srgbClr val="cc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Лекция №6</a:t>
            </a: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717720" cy="4753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324000" y="333360"/>
            <a:ext cx="813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кислительно-восстановительные  реакции</a:t>
            </a:r>
            <a:endParaRPr b="1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B151-79E6-49BF-B395-F60629FB39A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8360" y="0"/>
            <a:ext cx="8229600" cy="1403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Важнейшие восстановители и окисл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0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F930-6544-46B0-AFFC-680B008675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Элементы в промежуточной степени окисления. H2+O–2. 2О– +2е?2О-2. H2+O2–. 2О– -2е? О20. О20. S+4 +6e ? S–2. Na2S–2. Na2S+4O3. S0. S+4 +4e ? S0. S+4 – 2e ? S+6. Na2S+6O4."/>
          <p:cNvPicPr/>
          <p:nvPr/>
        </p:nvPicPr>
        <p:blipFill>
          <a:blip r:embed="rId1"/>
          <a:srcRect l="0" t="6593" r="0" b="8973"/>
          <a:stretch/>
        </p:blipFill>
        <p:spPr>
          <a:xfrm>
            <a:off x="324000" y="260280"/>
            <a:ext cx="8424720" cy="631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FBEE-7326-4368-AF81-65878F5072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Типы ОВР. 2сu0 +O20? 2cu2+o2–. 3H2S?2 +H2S+6O4 ? 4S0 + 4H2O. 6KI? + 4H2S+6O4 ? 3I20+S0 +3K2SO4+4H2O. (N–3H4)2Cr2+6O7 (t0) ? N20 + Cr2+3O3 + 4H2O. 2NaN+5O3–2 ? 2NaN+3O2 + O20. Межмолекулярные. Внутримолекулярные. Диспропорционирование. KCl+5O3–2 ? 2KCl– + 3O20. 4KCl+5O3?KCl?+3KCl+7O4. Cl20 + 2KOH ? KCl? +KCl+1O +H2O. 4Na2S+4O3 ? Na2S?2 + 3Na2S+6O4."/>
          <p:cNvPicPr/>
          <p:nvPr/>
        </p:nvPicPr>
        <p:blipFill>
          <a:blip r:embed="rId1"/>
          <a:srcRect l="0" t="4367" r="0" b="6747"/>
          <a:stretch/>
        </p:blipFill>
        <p:spPr>
          <a:xfrm>
            <a:off x="684360" y="1239840"/>
            <a:ext cx="7416720" cy="5562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682560" y="25848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ассификация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5D8E-C66E-4E41-A4F2-DC4A05B020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Межмолекулярные окислительно-восстановительные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кислитель и восстановитель находятся в разных веществах; обмен электронами в этих реакциях происходит между различными атомами или молеку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7960" y="219600"/>
            <a:ext cx="7790400" cy="13197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сификация окислительно-восстановительных реакци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03280" y="3429000"/>
            <a:ext cx="6042240" cy="2168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11280" y="5516640"/>
            <a:ext cx="78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юда же относятся реакции между веществами, в которых атомы одного и того же элемента имеют разные степени ок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629928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3E5D-28E6-4F8A-B4ED-373508E52E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Внутримолекулярные окислительно- восстановительные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268280"/>
            <a:ext cx="856908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нутримолекулярны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акциях окислитель и восстановитель находя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 одной и той ж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нутримолекулярные реакции протекают, как правило, пр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ермическом разложен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ществ, содержащих окислитель и восстановите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3570120"/>
            <a:ext cx="9144000" cy="218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C29C-D433-4867-B4F4-CCD4EF2A64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Диспропорционировани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ислительно-восстановительная реакция, в которой один элемент одновременно повышает и понижает степень ок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3807000"/>
            <a:ext cx="9144000" cy="140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5F79-4BB6-4D06-AA11-28286113F3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       Электронный баланс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метод нахождения коэффициентов в уравнениях окислительно-восстановительных реакций, в котором рассматривается обмен электронами между атомами элементов, изменяющих свою степень окис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Число электронов, отданное восстановителем, равно числу электронов, получаемых окисли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35400" y="452880"/>
            <a:ext cx="7873200" cy="1069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D7BD-6A14-4649-AD03-96020F6118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68360" y="404640"/>
            <a:ext cx="8064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ление уравнений ОВР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тодом электронного баланса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/>
          <p:nvPr/>
        </p:nvSpPr>
        <p:spPr>
          <a:xfrm>
            <a:off x="285840" y="1773360"/>
            <a:ext cx="885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Метод основ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 сравнении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тепеней окисления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атомов в исходных веществах и продуктах реакции и на балансировании числа электронов, смещенных от  восстановителя к окислит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Метод применяет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ля составления уравнений реакций, протекающих в любых фаз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этом универсальность и удобство мет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Недостаток мето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ри выражении сущности реакций, протекающих в растворах, не отражается существование реальных част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DEAC-8123-4237-8CBB-0FCCDD2167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620640"/>
            <a:ext cx="914400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ставить схему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степени окисления элементов в реагентах и продуктах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, является реакция окислительно-восстановительной или она протекает без изменения степеней окисления элемен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дчеркнуть элементы, степени окисления которых изменяю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, какой элемент окисляется (его степень окисления повышается) и какой элемент восстанавливается (его степень окисления понижается) в процессе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левой части схемы обозначить с помощью стрелок процесс окисления (смещение электронов от атома элемента) и процесс восстановления (смещение электронов к атому элемен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восстановитель и окислите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балансировать число электронов между окислителем и восстановител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коэффициенты для окислителя и восстановителя, продуктов окисления и восстанов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писать коэффициент перед формулой вещества, определяющего среду раств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верить уравнение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7937640" cy="35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BF94-3DA5-43D4-9EC8-47545BDC6A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71640" y="1135080"/>
            <a:ext cx="6696000" cy="5722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624960" y="156600"/>
            <a:ext cx="7916400" cy="9410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</a:t>
            </a: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х реакций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8F7F-EA53-4112-BA9C-DE16F40CAE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189000"/>
            <a:ext cx="8497800" cy="1511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98100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7885080" y="6669000"/>
            <a:ext cx="647640" cy="189000"/>
          </a:xfrm>
          <a:custGeom>
            <a:avLst/>
            <a:gdLst>
              <a:gd name="textAreaLeft" fmla="*/ 12240 w 647640"/>
              <a:gd name="textAreaRight" fmla="*/ 635400 w 64764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16" h="21600">
                <a:moveTo>
                  <a:pt x="0" y="0"/>
                </a:moveTo>
                <a:lnTo>
                  <a:pt x="73916" y="0"/>
                </a:lnTo>
                <a:lnTo>
                  <a:pt x="73916" y="21600"/>
                </a:lnTo>
                <a:lnTo>
                  <a:pt x="0" y="21600"/>
                </a:lnTo>
                <a:close/>
              </a:path>
              <a:path fill="lightenLess" w="73916" h="21600">
                <a:moveTo>
                  <a:pt x="0" y="0"/>
                </a:moveTo>
                <a:lnTo>
                  <a:pt x="73916" y="0"/>
                </a:lnTo>
                <a:lnTo>
                  <a:pt x="72516" y="1400"/>
                </a:lnTo>
                <a:lnTo>
                  <a:pt x="1400" y="1400"/>
                </a:lnTo>
                <a:close/>
              </a:path>
              <a:path fill="darken" w="73916" h="21600">
                <a:moveTo>
                  <a:pt x="73916" y="0"/>
                </a:moveTo>
                <a:lnTo>
                  <a:pt x="73916" y="21600"/>
                </a:lnTo>
                <a:lnTo>
                  <a:pt x="72516" y="20200"/>
                </a:lnTo>
                <a:lnTo>
                  <a:pt x="72516" y="1400"/>
                </a:lnTo>
                <a:close/>
              </a:path>
              <a:path fill="darkenLess" w="73916" h="21600">
                <a:moveTo>
                  <a:pt x="73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16" y="20200"/>
                </a:lnTo>
                <a:close/>
              </a:path>
              <a:path fill="lighten" w="73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916" h="21600">
                <a:moveTo>
                  <a:pt x="36958" y="3837"/>
                </a:moveTo>
                <a:lnTo>
                  <a:pt x="39534" y="6448"/>
                </a:ln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lnTo>
                  <a:pt x="43921" y="10800"/>
                </a:lnTo>
                <a:lnTo>
                  <a:pt x="42267" y="10800"/>
                </a:lnTo>
                <a:lnTo>
                  <a:pt x="42267" y="17989"/>
                </a:lnTo>
                <a:lnTo>
                  <a:pt x="31649" y="17989"/>
                </a:lnTo>
                <a:lnTo>
                  <a:pt x="31649" y="10800"/>
                </a:lnTo>
                <a:lnTo>
                  <a:pt x="29995" y="10800"/>
                </a:lnTo>
                <a:close/>
              </a:path>
              <a:path fill="darkenLess" w="73916" h="21600">
                <a:moveTo>
                  <a:pt x="39534" y="6448"/>
                </a:move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close/>
              </a:path>
              <a:path fill="darkenLess" w="73916" h="21600">
                <a:moveTo>
                  <a:pt x="36036" y="14299"/>
                </a:moveTo>
                <a:lnTo>
                  <a:pt x="37881" y="14299"/>
                </a:lnTo>
                <a:lnTo>
                  <a:pt x="37881" y="17989"/>
                </a:lnTo>
                <a:lnTo>
                  <a:pt x="42267" y="17989"/>
                </a:lnTo>
                <a:lnTo>
                  <a:pt x="42267" y="10800"/>
                </a:lnTo>
                <a:lnTo>
                  <a:pt x="31649" y="10800"/>
                </a:lnTo>
                <a:lnTo>
                  <a:pt x="31649" y="17989"/>
                </a:lnTo>
                <a:lnTo>
                  <a:pt x="36036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7236000" y="6669000"/>
            <a:ext cx="649080" cy="189000"/>
          </a:xfrm>
          <a:custGeom>
            <a:avLst/>
            <a:gdLst>
              <a:gd name="textAreaLeft" fmla="*/ 12240 w 649080"/>
              <a:gd name="textAreaRight" fmla="*/ 636840 w 6490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4081" h="21600">
                <a:moveTo>
                  <a:pt x="0" y="0"/>
                </a:moveTo>
                <a:lnTo>
                  <a:pt x="74081" y="0"/>
                </a:lnTo>
                <a:lnTo>
                  <a:pt x="74081" y="21600"/>
                </a:lnTo>
                <a:lnTo>
                  <a:pt x="0" y="21600"/>
                </a:lnTo>
                <a:close/>
              </a:path>
              <a:path fill="lightenLess" w="74081" h="21600">
                <a:moveTo>
                  <a:pt x="0" y="0"/>
                </a:moveTo>
                <a:lnTo>
                  <a:pt x="74081" y="0"/>
                </a:lnTo>
                <a:lnTo>
                  <a:pt x="72681" y="1400"/>
                </a:lnTo>
                <a:lnTo>
                  <a:pt x="1400" y="1400"/>
                </a:lnTo>
                <a:close/>
              </a:path>
              <a:path fill="darken" w="74081" h="21600">
                <a:moveTo>
                  <a:pt x="74081" y="0"/>
                </a:moveTo>
                <a:lnTo>
                  <a:pt x="74081" y="21600"/>
                </a:lnTo>
                <a:lnTo>
                  <a:pt x="72681" y="20200"/>
                </a:lnTo>
                <a:lnTo>
                  <a:pt x="72681" y="1400"/>
                </a:lnTo>
                <a:close/>
              </a:path>
              <a:path fill="darkenLess" w="74081" h="21600">
                <a:moveTo>
                  <a:pt x="740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81" y="20200"/>
                </a:lnTo>
                <a:close/>
              </a:path>
              <a:path fill="lighten" w="740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4081" h="21600">
                <a:moveTo>
                  <a:pt x="30034" y="10800"/>
                </a:moveTo>
                <a:lnTo>
                  <a:pt x="44047" y="3794"/>
                </a:lnTo>
                <a:lnTo>
                  <a:pt x="44047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endshow"/>
          </p:cNvPr>
          <p:cNvSpPr/>
          <p:nvPr/>
        </p:nvSpPr>
        <p:spPr>
          <a:xfrm>
            <a:off x="6588000" y="6669000"/>
            <a:ext cx="648000" cy="189000"/>
          </a:xfrm>
          <a:custGeom>
            <a:avLst/>
            <a:gdLst>
              <a:gd name="textAreaLeft" fmla="*/ 12240 w 648000"/>
              <a:gd name="textAreaRight" fmla="*/ 635760 w 64800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57" h="21600">
                <a:moveTo>
                  <a:pt x="0" y="0"/>
                </a:moveTo>
                <a:lnTo>
                  <a:pt x="73957" y="0"/>
                </a:lnTo>
                <a:lnTo>
                  <a:pt x="73957" y="21600"/>
                </a:lnTo>
                <a:lnTo>
                  <a:pt x="0" y="21600"/>
                </a:lnTo>
                <a:close/>
              </a:path>
              <a:path fill="lightenLess" w="73957" h="21600">
                <a:moveTo>
                  <a:pt x="0" y="0"/>
                </a:moveTo>
                <a:lnTo>
                  <a:pt x="73957" y="0"/>
                </a:lnTo>
                <a:lnTo>
                  <a:pt x="72557" y="1400"/>
                </a:lnTo>
                <a:lnTo>
                  <a:pt x="1400" y="1400"/>
                </a:lnTo>
                <a:close/>
              </a:path>
              <a:path fill="darken" w="73957" h="21600">
                <a:moveTo>
                  <a:pt x="73957" y="0"/>
                </a:moveTo>
                <a:lnTo>
                  <a:pt x="73957" y="21600"/>
                </a:lnTo>
                <a:lnTo>
                  <a:pt x="72557" y="20200"/>
                </a:lnTo>
                <a:lnTo>
                  <a:pt x="72557" y="1400"/>
                </a:lnTo>
                <a:close/>
              </a:path>
              <a:path fill="darkenLess" w="73957" h="21600">
                <a:moveTo>
                  <a:pt x="73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57" y="20200"/>
                </a:lnTo>
                <a:close/>
              </a:path>
              <a:path fill="lighten" w="73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2060640"/>
            <a:ext cx="82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условный заряд атома в молекуле, вычисленный в предположении, что молекула состоит из ионов и в целом электронейтраль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электроотрицательные элементы в соединении имеют отрицательные степени окисления, а атомы элементов с меньшей электроотрицательностью - положитель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пень окисления - формальное понятие; в ряде случаев степень окисления не совпадает с валент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58920" y="4394160"/>
            <a:ext cx="73454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N</a:t>
            </a:r>
            <a:r>
              <a:rPr b="0" lang="ru-RU" sz="20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H</a:t>
            </a:r>
            <a:r>
              <a:rPr b="0" lang="ru-RU" sz="20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(гидраз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епень окисления азота – -2; валентность азота –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51280" y="5084640"/>
            <a:ext cx="1440000" cy="67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0C6C-4771-4993-BEA0-EF9AC3C96B9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B      Электронно-ионный баланс (метод полуреакций)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тод нахождения коэффициентов, в котор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атривается обмен электронами между ионами в растворе с учетом характера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46560" y="438480"/>
            <a:ext cx="7873200" cy="1069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34D5-A639-4526-BCD4-01E494F598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11280" y="333360"/>
            <a:ext cx="77058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ление уравнений ОВР методом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уреакций или ионно-электронным методом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/>
          <p:nvPr/>
        </p:nvSpPr>
        <p:spPr>
          <a:xfrm>
            <a:off x="135000" y="2060640"/>
            <a:ext cx="8881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Метод основ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 составлении ионно-электронных уравнений для процессов окисления и восстановления с учетом реально существующих частиц и последующим суммированием их в общее урав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Метод применя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для выражения сущности окислительно-восстанов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льных реакций , протекающих только в раство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Достоинство мето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В электронно-ионных уравнениях полуреакций записываются ионы, реаль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ществующие в водном растворе, а не условные част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Понятие «степень окисления» не использу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При использовании этого метода не нужно знать все вещества: о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яются при выводе уравнения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Видна роль среды как активного участника все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6482-E3BC-4F3B-9F9F-C7504CBB80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49360"/>
            <a:ext cx="9032760" cy="60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Записываем ионную схему процесса, которая включает только восстановитель и продукт его окисления и окислитель и продукт его восстановления: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+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&gt;  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ем ионно-электронное уравнение процесса окисления(э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реакция)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- 2ē -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ем ионно-электронное уравнение процесса восстановления(э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реакция)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 + 2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 ē -&gt; 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ываем уравнения полуреакций так, чтобы число электронов между окислителем и  восстановителем было сбалансирова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- 2ē -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 + 2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  ē-&gt;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ируем почленно уравнения полуреакций. Составляем общее ионное уравнение реакции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 + 2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+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2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2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яем правильность составления уравнения реакции в ионном ви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число атомов элементов должно быть равно в левой и в правой частях урав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общий заряд частиц в левой и правой частях ионного уравнения должен быть одина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Записываем уравнение в молекулярной форме. Для этого добавляем к ионам, входящим в ионное уравнение, необходимое число ионов противоположного заряда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+ 4H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Zn(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2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2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3141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694836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11280" y="115920"/>
            <a:ext cx="80866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горитм составления уравнения ОВР методом полуреакций</a:t>
            </a:r>
            <a:endParaRPr b="1" lang="en-US" sz="24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B5AB-A7AA-4752-A932-BB96DDB247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ЛИЯНИЕ СРЕДЫ НА ПРОТЕКАНИЕ ОКИСЛИТЕЛЬНО-ВОССТАНОВИ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1403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</a:t>
            </a: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68360" y="2133720"/>
          <a:ext cx="8351640" cy="3419280"/>
        </p:xfrm>
        <a:graphic>
          <a:graphicData uri="http://schemas.openxmlformats.org/drawingml/2006/table">
            <a:tbl>
              <a:tblPr/>
              <a:tblGrid>
                <a:gridCol w="1942920"/>
                <a:gridCol w="3024360"/>
                <a:gridCol w="338436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БЫТОК АТОМОВ КИСЛО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ОК АТОМОВ КИСЛО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тра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елоч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475A-A423-4621-ABE8-3A1A5AFACD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акции с участием перманганата калия в качестве окислителя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1840" y="402840"/>
            <a:ext cx="823320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95640" y="206064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кисл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8280360" cy="3466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84360" y="2637000"/>
            <a:ext cx="7416720" cy="6490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В кислой среде кислород отдают молекулы во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а связывается он ионами вод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F5B0-3690-4A3E-9F81-AAC35349E77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нейтральн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93120" y="402840"/>
            <a:ext cx="84124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605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0920" y="6197400"/>
            <a:ext cx="8569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иолетовый раство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Mn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после окончания реакции обесцвечивается и наблюдается выпадение бурого оса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1773360"/>
            <a:ext cx="7561080" cy="6490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В нейтральной среде добавление и связы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атомов кислорода осуществляется только молекулами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9C79-9210-47DD-8255-5FACCB66FD9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6200" y="142560"/>
            <a:ext cx="82216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8000" y="134136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щелочн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9144000" cy="3898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55640" y="1989000"/>
            <a:ext cx="7416720" cy="6494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В щелочной среде кислород предоставляют ионы ОН</a:t>
            </a:r>
            <a:r>
              <a:rPr b="1" i="1" lang="en-US" sz="1800" spc="-1" strike="noStrike">
                <a:solidFill>
                  <a:srgbClr val="ccff33"/>
                </a:solidFill>
                <a:latin typeface="Arial"/>
                <a:ea typeface="Arial"/>
              </a:rPr>
              <a:t>¯</a:t>
            </a: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а связывается он молекулами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C841-DB77-47EC-BB5E-E50B5629E96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545080" cy="4319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66200" y="142560"/>
            <a:ext cx="82216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ABEF-D9EB-4485-99F5-B6F515E8EF0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взаимодействии веществ, содержащих в своем составе элементы в промежуточных степенях окисления о направлении реакции судят по окислительно-восстановительными потенциалами, которые характеризуют работу, затрачиваемую на отрыв электронов при переходе вещества из восстановленной формы в окисленную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ислительно-восстановительный потенциал </a:t>
            </a:r>
            <a:r>
              <a:rPr b="1" lang="el-GR" sz="2400" spc="-1" strike="noStrike">
                <a:solidFill>
                  <a:srgbClr val="663300"/>
                </a:solidFill>
                <a:latin typeface="Arial"/>
                <a:ea typeface="Arial"/>
              </a:rPr>
              <a:t>φ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оличественная характеристика окислительно-восстановительной п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-171360"/>
            <a:ext cx="9144000" cy="1700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пределение направления протекания окислительно-восстановительных реа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F6E0-91C7-490B-A215-A55417D4E91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 действ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 таблице потенциалов определяют потенциалы окислителя и восстанов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ходят их алгебраическую сум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0, то процесс возмож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0,  то процесс невозмож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= 0, то химическое равновес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акция будет протекать в том случае, если окислительно-восстановительный потенциал окислителя выше, чем восстановителя, а их разница больше н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    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Примечание. Во всех справочниках </a:t>
            </a:r>
            <a:r>
              <a:rPr b="1" lang="el-GR" sz="1600" spc="-1" strike="noStrike">
                <a:solidFill>
                  <a:srgbClr val="ff6600"/>
                </a:solidFill>
                <a:latin typeface="Arial"/>
                <a:ea typeface="Arial"/>
              </a:rPr>
              <a:t>φ</a:t>
            </a:r>
            <a:r>
              <a:rPr b="1" lang="ru-RU" sz="1600" spc="-1" strike="noStrike" baseline="30000">
                <a:solidFill>
                  <a:srgbClr val="ff6600"/>
                </a:solidFill>
                <a:latin typeface="Arial"/>
                <a:ea typeface="Arial"/>
              </a:rPr>
              <a:t>0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указаны</a:t>
            </a: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для окисли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  </a:t>
            </a: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Для восстановителей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берут процесс в </a:t>
            </a:r>
            <a:r>
              <a:rPr b="1" i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обратном направлении с противоположным зна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-171360"/>
            <a:ext cx="9144000" cy="1700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пределение направления протекания окислительно-восстановительных реа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7936-8A2F-4D83-8A3D-F765C01C208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0120" y="41724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чет степени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341360"/>
            <a:ext cx="822960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Для вычисления степени окисления элемента следует учитывать следующие по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    Степени окисления атомов в простых веществах равны нулю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   Постоянную степень окисления имеют атом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очных металлов (+1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очноземельных металлов (+2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орода (+1) (кроме гидридо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р., где степень окисления водорода -1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слорода (-2) (кром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ероксидов, содержащих группу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, в которой степень окисления кислорода -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CEFA-BE86-4043-B2CF-AB97E3BC5F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Возможен ли процесс: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Cu +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FeCl</a:t>
            </a:r>
            <a:r>
              <a:rPr b="1" lang="en-US" sz="3200" spc="-1" strike="noStrike" baseline="-25000">
                <a:solidFill>
                  <a:srgbClr val="6633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 Narrow"/>
              </a:rPr>
              <a:t>→</a:t>
            </a:r>
            <a:r>
              <a:rPr b="1" lang="ru-RU" sz="3200" spc="-1" strike="noStrike">
                <a:solidFill>
                  <a:srgbClr val="663300"/>
                </a:solidFill>
                <a:latin typeface="Arial Narrow"/>
              </a:rPr>
              <a:t>? +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писывают из справочника все вариа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 – 2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C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Narrow"/>
              </a:rPr>
              <a:t>+2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-0,34 B   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 – 1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C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Narrow"/>
              </a:rPr>
              <a:t>+1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-0,52 B   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1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+0,77 B  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3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+0,33 B  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дет тот процесс, где алгебраическая сумма потенциалов наибольшая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тому условию удовлетворяют варианты 1 и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 +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С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+ 2Fe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07E0-6D07-4607-8E68-C90007B037C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00000" y="1440"/>
            <a:ext cx="7344000" cy="685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DCE7-B56D-4199-B087-A59FD37B0EB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4221000"/>
            <a:ext cx="8229600" cy="19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6920" y="33156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413000"/>
            <a:ext cx="8097840" cy="25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    Алгебраическая сумма степеней окисления всех атомов, входящих в состав молекулы, всегда равна нулю, а в сложном ионе эта сумма равна заряду и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      Для элементов положительная степень окисления не может превышать величину, равную номеру группы периодической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чет степени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500F-B1E9-43AF-A5C9-B539A56E8A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11280" y="40284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Реакции без и с изменением степени окисления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уществует два типа химических реакц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     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кции, в которых не изменяется степень окисления элемен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при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раз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 CuO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об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C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C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OH + H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D4A9-CB2C-4E5F-83EE-AC3AEFF1E4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B    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кции, в которых происходит изменение степеней окисления атомов элементов, входящих в состав реагирующих соедине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 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K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4H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ие реакции называются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окислительно - восстановитель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19640" y="180000"/>
            <a:ext cx="7869600" cy="10800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Реакции без и с изменением степени окисле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E5CA-CC4A-492A-87D4-61D3FE4B3D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16760" y="177120"/>
            <a:ext cx="7875360" cy="10634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Окисление, восстановление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кислительно-восстановительных реакциях электроны от одних атомов, молекул или ионов переходят к другим. Процесс отдачи электронов -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окислени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окислении степень окисления повыша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2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2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3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2ē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435640" y="3933720"/>
            <a:ext cx="2857320" cy="18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0423-3C77-48C8-B6F3-C88B756258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 присоединения электронов – </a:t>
            </a: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восстановление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восстановлении степень окисления пониж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3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4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омы или ионы, которые в данной реакции присоединяют электроны являются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окислител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которые отдают электроны -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восстановител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00720" y="1557360"/>
            <a:ext cx="4392360" cy="285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81F7-0D53-455E-96F1-8C2AFFC132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43680" y="175320"/>
            <a:ext cx="7878960" cy="1052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е свойства вещества и степени окисления входящих в него атомо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457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единения, содержащие атомы элементов с максимальной степенью окисления, могут быть только окислителями за счет этих атомов, т.к. они уже отдали все свои валентные электроны и способны только принимать электро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симальная степень окисления атома элемента равна номеру группы в периодической таблице, к которой относится данный элем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Соединения, содержащие атомы элементов с минимальной степенью окисления, могут служить только восстановителями, поскольку они способны лишь отдавать электроны, потому, что внешний энергетический уровень у таких атомов завершен восемью электронам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Минимальная степень окисления у атомов металлов равна 0, для неметаллов - (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–8) (где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- номер группы в периодической системе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оединения, содержащие атомы элементов с промежуточной степенью окисления, могут быть и окислителями и восстановителями, в зависимости от партнера, с которым взаимодействуют и от условий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8AAE-C6E3-44DB-BF77-8360821FE3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0T12:50:36Z</dcterms:created>
  <dc:creator>Юля</dc:creator>
  <dc:description/>
  <dc:language>en-US</dc:language>
  <cp:lastModifiedBy>User</cp:lastModifiedBy>
  <dcterms:modified xsi:type="dcterms:W3CDTF">2011-11-30T10:37:33Z</dcterms:modified>
  <cp:revision>38</cp:revision>
  <dc:subject/>
  <dc:title>Слайд 1</dc:title>
</cp:coreProperties>
</file>